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0A1D-EFAB-4FE3-8364-F887D98C2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6BDC-BBE6-4D8E-AF9E-A761D5BE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FA2-58AF-4892-B6AB-935438343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F693-7CB4-4594-A652-947C2837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C06F-42D2-4202-8484-45C8E8F7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427F-B301-4823-B39C-20F48F4A9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70A-27D6-4D48-8C23-70F3290B8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8BE-0CD0-4133-BAB6-9359A410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4948-1074-430A-9C0E-0E472D91B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4F67-2EE5-4AB5-9C50-51B520959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6635-2801-4526-A5ED-0386B6D6D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D5C2-7AD3-4FD1-AB87-B8999B9A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0195-A23F-4824-B7AE-358B79C40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C3E-5B08-450B-88DF-0290A1F40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BC19-6F0A-4BAD-8D60-394B5CC7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CF64-4E7E-46E3-88D1-F5A6DF9DC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DAE1-F682-42D4-8BEC-1697D8476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1576-F857-44D0-8EC0-99B128037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C4C5-6658-4F53-9AA0-2C69101CE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C57-3080-4231-9BB3-63EACB0D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2BE5-00BC-4CBD-B44B-80336CDE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DDAD-83FF-432C-9FCB-E54FEDEA9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28F4-C039-40B6-AA25-F2E61B77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955B3-18C8-4A8F-B449-DB118501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A1B5-F90C-46CE-83CF-54AA52721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D77F3-43AD-4DD7-B308-54D00987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66F9-4051-4253-B5B6-E3F3BCC24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1D5A-56D4-4901-9364-E6E1ACC3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92D8-DA11-46CC-B578-12F2325E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6832-6B73-4C83-A927-9863F32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BC9D-A083-420F-A311-4AED63B7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E9F6-BF3C-4B28-BA9E-3E5ADDDB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60CF-8481-4011-A5BC-CF713B60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22731-0788-45D7-9CC1-7FDB16DD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41AF-FAD6-43D5-91D9-C612D793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D62-C0DA-4213-BB5A-D72CC16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70F0-08D0-44AC-8923-27E9DED4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1763-75C5-492B-9560-33B13C6B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18E3-D4BE-40F7-A784-EFC24571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D8210-1FE4-4FB2-B00F-A2D450953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359CA-65E7-448A-A8AE-9659B83A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381FF-5341-47E4-86DD-7B6398FB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EC02-229B-45AF-B448-4B7DB92F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6AE74-1470-48A0-97BC-491BCD8F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4FCF4-661C-4022-8361-FA5DADD6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700A3-610A-4AEB-A486-6D2E3E9C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E419-F195-48B1-9AE5-2DF9CCE82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7B05-9110-4B4C-B3E8-856598EDBE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soft.com/catalist.html" TargetMode="External"/><Relationship Id="rId2" Type="http://schemas.openxmlformats.org/officeDocument/2006/relationships/hyperlink" Target="http://groups-beta.google.com/grphp?hl=en&amp;tab=wg&amp;q=" TargetMode="External"/><Relationship Id="rId3" Type="http://schemas.openxmlformats.org/officeDocument/2006/relationships/hyperlink" Target="http://groups.yahoo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chool.discovery.com/schrockguide/eval.html" TargetMode="External"/><Relationship Id="rId2" Type="http://schemas.openxmlformats.org/officeDocument/2006/relationships/hyperlink" Target="http://www.library.cornell.edu/olinuris/ref/webcrit.html" TargetMode="External"/><Relationship Id="rId3" Type="http://schemas.openxmlformats.org/officeDocument/2006/relationships/hyperlink" Target="http://www.webs.uidaho.edu/info_literacy/" TargetMode="External"/><Relationship Id="rId4" Type="http://schemas.openxmlformats.org/officeDocument/2006/relationships/hyperlink" Target="http://www.plagiarism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ogpil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Internet I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ducation 83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219320" y="685800"/>
            <a:ext cx="6933960" cy="57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Boolean Operators to fine tune your se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ain forest or rainforest      (either/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dog or canine                      (either/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Russia not Soviet Uni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women and Middle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e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lsoft.com/catalis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groups or Us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groups-beta.google.com/grphp?hl=en&amp;tab=wg&amp;q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groups.yahoo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ng Search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thy Schrock’s Guide for Edu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school.discovery.com/schrockguide/eva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Criteria for Evaluating Web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www.library.cornell.edu/olinuris/ref/webcri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http://www.webs.uidaho.edu/info_literac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giarism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www.plagiarism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computers that are linked together to share information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er Networks (Shared Fol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 (Local:School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 (Wide) ( World Wide Web or an entire school distri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anc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sition of knowledge and skills through mediated information and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: K-12 /Home Schooling/Higher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te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/Government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medic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ey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er is physically separated in time and or distance from means of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methods include two-way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istanc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spondence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eacher and student are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wo –way communication via snail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 and televison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 College:WS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synonymous with online learning and web-bas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Phoe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High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gel; Blackboard.com Web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uses: 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s for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s of assignments, quizzes ,link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can be up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Earn http://www.iearn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neither encourages nor discourages the use of distance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lack of a physical class unit which contributes to a high drop out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rse Design and Delive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problems must be overco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level of discipline is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ine learners lack physical classroom suppor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685800" y="106668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3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213360" cy="3176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e Internet Searc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e Student Writing Publishing student writing encourages the reluctant writer, strengthens kids' self-confidence, rewards interest, and promotes a positive attitude toward literature. If your school is like most, however, you lack an easy and effective way of publishing your students' work. Now, help is as close as a mouse click away! Today, Education World writer Glori Chaika explores opportunities to publish student writing --and teacher writing-- on the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ALS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the world's largest on-line classroom community connecting hundreds of classrooms with thousands of stud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Learning and the 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final project which will be a technology enhanced lesson must utilize distance learning throug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ite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19320" y="1143000"/>
            <a:ext cx="73152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ubject Directory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r  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arch Eng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371600" y="914400"/>
            <a:ext cx="7772400" cy="64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bject Guid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ly arranged subject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ah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earch Engine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66720" y="1120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914400" y="685800"/>
            <a:ext cx="769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search engines do a keyword search against a databa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14400" y="3352680"/>
            <a:ext cx="7162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database               Frequency of 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capability              Design and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38080" y="2514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s  influence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914400" y="685800"/>
            <a:ext cx="7543800" cy="46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tasearch Sites or Metacrawl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6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 *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gp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tacra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craw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ized Search Eng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nd Dog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ahoo BabelfishTrans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b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m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609480" y="3808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arch Phras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685800" y="1371600"/>
            <a:ext cx="7696080" cy="48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quotes around words you wish to keep   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 Brit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educa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Ga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Capital letters for proper names to get fewer h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na vs.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914400" y="685800"/>
            <a:ext cx="71629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check 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Synony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both dolphins and porpo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Use a a directory search engine like Yahoo first to find related topics,names,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Then use search a keyword database like AltaVista for specific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4:06:30Z</dcterms:created>
  <dc:creator>Cindy</dc:creator>
  <dc:description/>
  <dc:language>en-US</dc:language>
  <cp:lastModifiedBy>Cindy DiDonato</cp:lastModifiedBy>
  <dcterms:modified xsi:type="dcterms:W3CDTF">2010-02-28T23:53:31Z</dcterms:modified>
  <cp:revision>32</cp:revision>
  <dc:subject/>
  <dc:title>Internet I</dc:title>
</cp:coreProperties>
</file>